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0631-6102-46AF-86E6-5347C7B4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70EE-C80D-4291-8A18-1D3405CD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7D7C2-461A-4BBD-A6B3-810A36D6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0E4B6-4B00-424E-A4C9-4A6E58C5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2FDD4-36BE-44C4-85C0-CDE34F0C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EA3A8-B0B9-49B2-9AFC-50222569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613FA-094E-426D-A1BF-EF3C811F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FD272-67A2-457C-9D86-D84DF84E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A328C-2399-47A6-94F4-C6AA586B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E612B-CD4F-4B9B-82EC-7A38CA134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60A42-F30D-4D2F-AD28-A4374D79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0118C-EDD0-48A4-85C7-1193DCFA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76B1-1520-469F-97C2-6D8107EB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84FB3-4922-497C-8E8F-B80A5FDA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645F0-B3D8-4B90-A126-D624546E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D21C7-52D7-4066-A98C-24BF5F41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DC455-0D5A-4CE5-9FD8-61701789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97AF8-99C4-4E52-A481-E90C7E8A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8A592-1E9D-4CF6-9BD2-44E69EFC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54EB5-B6B8-43B7-8AEC-0BCEB8F8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7BA46-261C-4A90-BE76-07307DBC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EC7DF-E75C-4AC2-9639-71D0B2C3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319EF-7323-4DBC-A0D1-0282EC64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0BE8-274F-4A34-A370-4B6A9E48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3A090-9FB8-4A0F-BC14-607E28A5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A327-9ABF-4CF0-BE15-AB02CCCA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6D50-99DD-4B8B-8CB8-FDF1A291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25A5-D9AE-4BB2-AB58-0521D727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1132-1D01-424A-B88F-BA4E51CA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0B96-3EFC-4A81-961A-9B38D424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DEC0-55E4-4380-ABB3-D1C36337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84A0-ED8D-4DB1-97D5-2DFB00DB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348A-9DB7-42ED-B635-B7353711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227F-D7BE-423F-AFB8-C21B68EE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94D9-8653-40C8-B98B-BA4C6A3C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A3BE-4C6B-4CE1-B250-57A46502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6E26-2AE5-4FB5-AFDD-BEAF57B3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B1C6-7C32-4497-9BCA-60C867874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FA6B3-88C4-4ECF-AF17-45779ABE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008E3-6459-4B1A-83FF-0AAF3E60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27797-24DE-4A31-9D3D-F92C76F4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09D61-596A-4E6F-8439-629C5297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F7781-1FCA-4300-9391-348E5A85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B684-B5B3-4CA7-A87D-92EAA203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80C52-ADC6-45B7-A1C1-45B32EEA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FD0F6-6DC7-4721-B10A-17B5CDB7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DF135-5786-4AA3-9250-1DA38081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AB7E7-FCD1-4BB2-A2E2-6529E816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06CA6-54C2-40AB-B545-EDFD7649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DDB4C-917B-42D0-AFC1-059B6988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77EED-52A9-4F44-BFCB-AC0815580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1B169-B4D2-4851-8BFD-AD2675DD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2E559-090F-432F-835F-CD3DC001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FAE30-12AE-4846-A7B0-EB30D670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964F-2D89-4957-9F2A-587C6C17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0B74A-48C3-48B1-B067-A41BF131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CD90F-93BA-44E6-9D44-C9C89C35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1398F-081E-4F51-9D6F-6AF2615A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23CED-DAF3-4EAD-849D-A48D243A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C95B9-07A6-4941-9BAB-E2AF3430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D51F8-FED6-4E20-B7D2-D9F621AE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CA039-0080-4E98-9C9B-9114510E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EFEE9-4088-46C6-BB36-63A7B1DC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0BC9D-DE7B-424A-93E5-6A156D51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3AA95-4B16-43A2-B66B-D8AEBD48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B0C7-10E8-4459-AF0D-8A4DBC1A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821AE-66CD-4C79-AD83-49AB542E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FE049-8C4A-4456-902A-DBA143F4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45CD7-F7F8-4182-9685-C403B02B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67B65-D728-4C55-8224-EDE57893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AA6C0-16EB-4111-843B-E7042A28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0DCEC-88DA-4B4B-B62E-F400BB84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10AC2-3F55-40BB-877F-682D4EF6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807A7-82B2-46D3-B75C-DDE6F5D1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52018-9352-4A80-BB50-8C44F117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55C8E-5DC0-4B45-A1A1-200FB3C6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E45D-533A-4E3F-B262-EB2DCE2B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743DC-B6F5-4331-B8E7-473F495E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86967-0B94-4189-8D2A-532F3678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2B746-5999-48E1-B431-F268BA36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C8035-5A8D-4C53-ABA5-CD41241A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7852A-F660-4B38-B419-2FBB103B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1DD49-2C52-4C61-BE36-27E4254E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C878F-00A0-4151-AE1C-254906C4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48FFE-ADE7-44BF-BD6D-45EF95F8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D5732-9653-4C4D-96F8-6C875624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7BD3C-0488-4EA7-87CA-3FEDE9CB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3CC3-2926-40D7-830A-3C3F053D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FEDAF-2719-4795-9E70-0A4B2464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ADDF4-71C6-479B-9C4F-B08C7A14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86A67-EB9D-477C-BB15-24BA2F6E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6D30E-CD1A-422F-AE1A-F3910D41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872A9-9CF1-4EC1-92E4-4A497EDF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795B1-8A20-47AC-9353-73118E94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4BAC2-22C9-4C16-BB79-40101A5D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92D0B-55F2-4C71-AC75-089753D3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4EAA9-1A93-452E-9B31-250C1D76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71592-EA11-4D0D-9812-595C5838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E372-B28A-4F68-9134-75D80BF4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136EE-7BDA-42F6-A5D3-F3011FA6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D3059-9AD6-4485-9D89-FC532BE0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FB417-8D6A-4D9F-9FAF-B3E7E16C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A9144-7689-4322-BCCF-EB23A971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E5C83-156C-4878-AD2C-F983284A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275CF-C556-4724-BE7B-63D1381CD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FC86C-1204-41C2-86A1-9D5AF55A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1F9C7-4B13-4B03-97F2-B77A16A7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CDA0C-2978-4B42-AD39-572BCCE6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E48FA-890F-46E3-B1A5-844188D4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A17D-B7F1-4DA0-9DCF-69FB6E2D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D294D-A844-4820-BAD6-0E02EE1A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BE73A-226E-4FEE-927A-9F0F3E50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33757-3DBE-4F15-94F2-F2BF6EE1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A4530-B18F-4AE5-B2BA-890C2263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1BA0D-730F-4104-8F12-D2875CE1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B39BD-A777-4707-9C6A-7BA6C2A5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362CD-6028-4E32-8D75-82FBA5F8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C3209-71BD-429F-AB52-BAB5D001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21689-2537-4B4F-AB31-8BB166B9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5B6FC-7794-4FAC-94BB-E93AEB4F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63342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B8E0-71B6-4B08-88EE-F4BFF2FF06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aa88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3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2F74-6022-4665-B9DC-EC2CFE9288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63342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8823-03D6-4610-BBF5-2E1AC651FBD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aa88a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0A68-8B10-4510-8B7A-212131CBB3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7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6508-EB5B-4023-99C5-0C8F4FEDB0F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2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F2BE-4738-478B-A856-F7DB0E2CD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7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5B01-4383-4EC0-8DFB-BA8C998E0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25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26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29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32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39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2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4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7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DEA2-78FC-4557-9FC9-CF76637F60E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01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02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05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06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11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14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17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20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29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32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7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38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6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47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9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50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2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53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56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1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62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4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65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7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68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0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71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2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3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82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85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88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94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97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00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03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06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08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09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7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8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19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B2BD-1EFE-4F4D-AE02-230DD5E0BBB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7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7D6D-C3C4-4E57-9EC4-D0BD2DD37F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23isback.com/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690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e6d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6e6d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3f2d9"/>
                </a:solidFill>
                <a:latin typeface="Arial"/>
              </a:rPr>
              <a:t>Steve Broussard</a:t>
            </a:r>
            <a:endParaRPr b="0" lang="en-US" sz="57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6e6da"/>
                </a:solidFill>
                <a:latin typeface="Verdana"/>
              </a:rPr>
              <a:t>All About M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Times New Roman"/>
              </a:rPr>
              <a:t>What I’m good 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pp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sted on the Bloc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tting Mone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y Favorite Web Sites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ww.theshoegam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www.23isback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ww.nicekick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0496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Favorite Foo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Stak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ake Potat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s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y Favorite Teachers are….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rs. We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rs. Rich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r. Jo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f I could I would…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40:32Z</dcterms:created>
  <dc:creator>004student</dc:creator>
  <dc:description/>
  <dc:language>en-US</dc:language>
  <cp:lastModifiedBy>004student</cp:lastModifiedBy>
  <dcterms:modified xsi:type="dcterms:W3CDTF">2008-10-23T15:57:21Z</dcterms:modified>
  <cp:revision>4</cp:revision>
  <dc:subject/>
  <dc:title>Steve Broussard</dc:title>
</cp:coreProperties>
</file>